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010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92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13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92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613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010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010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592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13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592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613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010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010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owerpointA_1.png"/>
          <p:cNvPicPr/>
          <p:nvPr/>
        </p:nvPicPr>
        <p:blipFill>
          <a:blip r:embed="rId2"/>
          <a:srcRect l="8537" t="12897" r="0" b="3708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a8b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3" name="Line 12"/>
          <p:cNvSpPr/>
          <p:nvPr/>
        </p:nvSpPr>
        <p:spPr>
          <a:xfrm>
            <a:off x="457200" y="6324480"/>
            <a:ext cx="7315200" cy="0"/>
          </a:xfrm>
          <a:prstGeom prst="line">
            <a:avLst/>
          </a:prstGeom>
          <a:ln w="6480">
            <a:solidFill>
              <a:srgbClr val="2d58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powerpointA_1.png"/>
          <p:cNvPicPr/>
          <p:nvPr/>
        </p:nvPicPr>
        <p:blipFill>
          <a:blip r:embed="rId2"/>
          <a:srcRect l="8537" t="12897" r="0" b="3708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12"/>
          <p:cNvSpPr/>
          <p:nvPr/>
        </p:nvSpPr>
        <p:spPr>
          <a:xfrm>
            <a:off x="457200" y="6324480"/>
            <a:ext cx="7315200" cy="0"/>
          </a:xfrm>
          <a:prstGeom prst="line">
            <a:avLst/>
          </a:prstGeom>
          <a:ln w="6480">
            <a:solidFill>
              <a:srgbClr val="2d58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owerpointA_5.png"/>
          <p:cNvPicPr/>
          <p:nvPr/>
        </p:nvPicPr>
        <p:blipFill>
          <a:blip r:embed="rId3"/>
          <a:srcRect l="8479" t="12897" r="0" b="3708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a8b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5a8b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mb.edu/cwppp/pipeline/fellows/martina_cruz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440" y="4038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artina Cruz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search Fellow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93800" y="5638680"/>
            <a:ext cx="40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85800" y="5638680"/>
            <a:ext cx="556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 Bold"/>
              </a:rPr>
              <a:t>A Research Partnership between the Center for Wo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 Bold"/>
              </a:rPr>
              <a:t>in Politics and Public Policy at the Women’s Pipeline 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793800" y="6095880"/>
            <a:ext cx="40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55920" y="-133200"/>
            <a:ext cx="6032160" cy="478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tical Motivations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omen of Color Leader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ing Challenges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Research Question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omen who are well-known and play an influential role in their community have important qualities that are necessary in policymaking bodies.</a:t>
            </a: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5a8b"/>
              </a:solidFill>
              <a:latin typeface="Arial Unicode MS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et many respected women of color leaders don’t pursue elective office.</a:t>
            </a: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  <a:p>
            <a:pPr lvl="1" marL="343080" indent="-343080">
              <a:spcBef>
                <a:spcPts val="75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Why don’t they run for political office?</a:t>
            </a:r>
            <a:endParaRPr b="0" lang="en-US" sz="3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Research Design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0200" y="1904760"/>
            <a:ext cx="793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terviewed 10 women of color active in their communities who have not been elected to political office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opulation included: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ve women from Lawrence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ve women from other Massachusetts cities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3" marL="1536120" indent="-2192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oston, Brockton, and Springfie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005a8b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Women of Color Leaders</a:t>
            </a:r>
            <a:br>
              <a:rPr sz="4000"/>
            </a:b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men of color leaders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iquely positioned and possess relevant skills and knowledge to address specific needs in their communities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ave strong commitment to promoting social justice and addressing injustices in their communities 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2" marL="1119960" indent="-22392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jor motivator for considering political office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mily is a source of knowledge and provides important experiences for making decisions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litics provides an important opportunity for: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omen to serve as role models in their families 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posure of children to strong models of leadership and community engagement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Community Activism and Values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munity involvement 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ften started at young age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came a central part of their lives and identity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rception of stronger impact as a community activist than as a public official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alues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grity, honesty, respect very important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rst-hand experience with corruption and dishonesty in political sphere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cern about compromising values in politics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Campaign Resources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nancial resources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derlying need to feel confident about capacity to raise funds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wn knowledge of resources and networks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lid campaign team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am of politically experienced advisors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twork of knowledgeable and experienced women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mpaign workers and volunteers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itted individuals to help with campaign needs to following encouragement to enter race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5a8b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Ensuring Support and Resources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tina Cruz summarized the importance of providing specific kinds of supports for women of color running for office: 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look for ways to facilitate those resources and information about where a woman who wants to run can go to learn or get trained…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t’s important to realize you need people to develop a campaign. We need a way to facilitate the way in which you get to build that team.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Create mechanisms that help connect women who want to run with other women who have had experience in the political arena.”</a:t>
            </a:r>
            <a:endParaRPr b="0" lang="en-US" sz="24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5a8b"/>
                </a:solidFill>
                <a:latin typeface="Arial Unicode MS"/>
              </a:rPr>
              <a:t>Recommendations</a:t>
            </a:r>
            <a:endParaRPr b="0" lang="en-US" sz="40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creased Supports for Women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ed additional and improved resources on how to run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ke this information available in the community 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volvement of Young Women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nk about the “pipeline” as starting with girls, not just adults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cognize that early exposure to politics may increase the likelihood that they will stay involved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etwork of Women to Support Each Other</a:t>
            </a: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mechanisms that help connect women who want to run with other women with experience in the political arena</a:t>
            </a: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  <a:p>
            <a:pPr lvl="1" marL="727920" indent="-280080">
              <a:spcBef>
                <a:spcPts val="451"/>
              </a:spcBef>
              <a:buClr>
                <a:srgbClr val="005a8b"/>
              </a:buClr>
              <a:buFont typeface="Lucida Grande"/>
              <a:buChar char="▸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5a8b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5a8b"/>
              </a:buClr>
              <a:buFont typeface="Lucida Grande"/>
              <a:buChar char="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r more information about Martina’s study, including video clips, photos, and summaries, please go to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5a8b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36003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Unicode MS"/>
                <a:hlinkClick r:id="rId1"/>
              </a:rPr>
              <a:t>Martina Cruz's Project</a:t>
            </a: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Some Spanish content is available on Martina’s webpage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5a8b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 visit: www.umb/pipeline</a:t>
            </a: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5a8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3:11:40Z</dcterms:created>
  <dc:creator>Angie Markowski</dc:creator>
  <dc:description/>
  <dc:language>en-US</dc:language>
  <cp:lastModifiedBy>Andrew Elder</cp:lastModifiedBy>
  <dcterms:modified xsi:type="dcterms:W3CDTF">2013-10-04T14:16:18Z</dcterms:modified>
  <cp:revision>114</cp:revision>
  <dc:subject/>
  <dc:title>Slide 1</dc:title>
</cp:coreProperties>
</file>